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0BCBE-DE96-4B82-9D2D-857E3437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30C44-CC7A-420B-AB53-BD00F3FD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CCC1-FF3C-45E1-BF53-56CC2009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E6D2B-51FA-4558-B246-F2911399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B2BE-7C24-40BC-BC1B-A2BA2358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DFE5-46D7-49E8-A692-A78E4F1F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BFB0-0018-47F5-9CA1-AF84B7D1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85D5-54D8-41D8-9B66-BB64B0D7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389E-E8D4-4111-88FF-A14E4C01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1F71-38D1-4C71-B46F-14ACFF9C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CC86-7428-4E49-A573-9E3D2F3B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4587-CEAC-47B9-8E29-96ECBC02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109D-15DA-4EAA-AD9B-3DAB2875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3885-2104-4CEF-B768-6EE78F48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35EC-D30B-4C82-839E-667BBFB2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3E92-13A4-4B52-AC53-EFB4154B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3614-C141-4677-9238-91BBEE43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578F-A0E1-4D42-925B-E35B4751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76B6-F018-4005-BB82-46433C5F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53E4-E04B-470C-81D9-24931615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7EF5-00D8-4672-BFA3-635E2CFF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F4C8F-8177-485C-8B35-6F4C1D79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AF27-D65C-4A48-A0F8-05C21CCA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843C-81CB-4D58-BCDD-58F6FAC3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f1f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232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2324b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8450-DCAA-4341-BF57-5A07BD0FA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f1f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232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2324b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B325-CCB2-4415-8D93-F7658B4D6C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ress2.nci.nih.gov/sciencebehind/nanotech/images/nano01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ellsalive.com/howbig.htm" TargetMode="External"/><Relationship Id="rId2" Type="http://schemas.openxmlformats.org/officeDocument/2006/relationships/hyperlink" Target="http://www.cellsalive.com/index.htm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02896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Introduction to Nanotechnolog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b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e Vree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did we get here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have we found ou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 in scale result in changes in proper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e area versus vol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e characteristics dominate at the nano-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 properties, chemical properties, and color all change at the nano-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ano Crysta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8" name="Picture 3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1913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rbon Nanotub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er than st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l and semi-conductor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conductor of electricity than cop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7" descr="schema%20nanotubes"/>
          <p:cNvPicPr/>
          <p:nvPr/>
        </p:nvPicPr>
        <p:blipFill>
          <a:blip r:embed="rId5"/>
          <a:stretch/>
        </p:blipFill>
        <p:spPr>
          <a:xfrm>
            <a:off x="4653000" y="1973160"/>
            <a:ext cx="403380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anotechnolog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rt materials – Sun Block, Memory me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ors – Smoke detectors, Biological 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cs – LED’s, Photovoltaic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ano-Imag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ber-bo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fonsecatim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4" descr="TF-BarbBot1A[1]"/>
          <p:cNvPicPr/>
          <p:nvPr/>
        </p:nvPicPr>
        <p:blipFill>
          <a:blip r:embed="rId1"/>
          <a:stretch/>
        </p:blipFill>
        <p:spPr>
          <a:xfrm>
            <a:off x="2743200" y="152388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ano Imag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ty Build-up Remo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fonsecatim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Picture 4" descr="arteryHiRes640[1]"/>
          <p:cNvPicPr/>
          <p:nvPr/>
        </p:nvPicPr>
        <p:blipFill>
          <a:blip r:embed="rId1"/>
          <a:stretch/>
        </p:blipFill>
        <p:spPr>
          <a:xfrm>
            <a:off x="2666880" y="152388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search Experience for Teach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exel University Research Experience for Teach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coe.drexel.edu/RET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Picture 7" descr="index21"/>
          <p:cNvPicPr/>
          <p:nvPr/>
        </p:nvPicPr>
        <p:blipFill>
          <a:blip r:embed="rId1"/>
          <a:stretch/>
        </p:blipFill>
        <p:spPr>
          <a:xfrm>
            <a:off x="3962520" y="3124080"/>
            <a:ext cx="159372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orkshop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s on Nano-Fabrication Workshop for Educato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cneu.psu.ed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1792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Picture 6" descr="mri"/>
          <p:cNvPicPr/>
          <p:nvPr/>
        </p:nvPicPr>
        <p:blipFill>
          <a:blip r:embed="rId1"/>
          <a:stretch/>
        </p:blipFill>
        <p:spPr>
          <a:xfrm>
            <a:off x="3048120" y="3200400"/>
            <a:ext cx="29718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orkshop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er for Nanoscale stud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ll Univers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cns.cornell.edu/cipt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5" descr="cns-logo-nt"/>
          <p:cNvPicPr/>
          <p:nvPr/>
        </p:nvPicPr>
        <p:blipFill>
          <a:blip r:embed="rId1"/>
          <a:stretch/>
        </p:blipFill>
        <p:spPr>
          <a:xfrm>
            <a:off x="3352680" y="2895480"/>
            <a:ext cx="243864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is Nanotechnology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o” means one billionth (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otechnology is the making or modifying of “things” in the nanometer size ran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00 nm – 1 n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9" descr="874_nanotubes"/>
          <p:cNvPicPr/>
          <p:nvPr/>
        </p:nvPicPr>
        <p:blipFill>
          <a:blip r:embed="rId3"/>
          <a:stretch/>
        </p:blipFill>
        <p:spPr>
          <a:xfrm>
            <a:off x="464832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ing Nano DVD - http://talkingnano.net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notechnology – Ratner and Rat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ing Nanotechnology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mrsec.wisc.edu/edetc/index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5" descr="Cineplex link"/>
          <p:cNvPicPr/>
          <p:nvPr/>
        </p:nvPicPr>
        <p:blipFill>
          <a:blip r:embed="rId1"/>
          <a:stretch/>
        </p:blipFill>
        <p:spPr>
          <a:xfrm>
            <a:off x="3505320" y="2590920"/>
            <a:ext cx="213336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ny Questions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 for you atten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have any questions, please feel free to email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vreeland@umasd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ative Siz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press2.nci.nih.gov/sciencebehind/nanotech/images/nano01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5" descr="nano01"/>
          <p:cNvPicPr/>
          <p:nvPr/>
        </p:nvPicPr>
        <p:blipFill>
          <a:blip r:embed="rId3"/>
          <a:stretch/>
        </p:blipFill>
        <p:spPr>
          <a:xfrm>
            <a:off x="685800" y="1828800"/>
            <a:ext cx="78487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ative Siz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Big on Cells A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www.cellsalive.com/howbig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Group 7"/>
          <p:cNvGrpSpPr/>
          <p:nvPr/>
        </p:nvGrpSpPr>
        <p:grpSpPr>
          <a:xfrm>
            <a:off x="3794040" y="-1004760"/>
            <a:ext cx="1555920" cy="8867520"/>
            <a:chOff x="3794040" y="-1004760"/>
            <a:chExt cx="1555920" cy="8867520"/>
          </a:xfrm>
        </p:grpSpPr>
        <p:sp>
          <p:nvSpPr>
            <p:cNvPr id="525" name="Rectangle 4"/>
            <p:cNvSpPr/>
            <p:nvPr/>
          </p:nvSpPr>
          <p:spPr>
            <a:xfrm>
              <a:off x="3794040" y="-1004760"/>
              <a:ext cx="1108080" cy="88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Rectangle 5"/>
            <p:cNvSpPr/>
            <p:nvPr/>
          </p:nvSpPr>
          <p:spPr>
            <a:xfrm>
              <a:off x="3794040" y="-1004760"/>
              <a:ext cx="1555920" cy="15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9999ff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en-US" sz="46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7" name="Picture 6" descr="title5"/>
          <p:cNvPicPr/>
          <p:nvPr/>
        </p:nvPicPr>
        <p:blipFill>
          <a:blip r:embed="rId3"/>
          <a:stretch/>
        </p:blipFill>
        <p:spPr>
          <a:xfrm>
            <a:off x="3505320" y="3048120"/>
            <a:ext cx="20574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“</a:t>
            </a: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ig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” is a Nanometer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nometer Scaling Activity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ting it down to N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4" descr="DSC00093-1"/>
          <p:cNvPicPr/>
          <p:nvPr/>
        </p:nvPicPr>
        <p:blipFill>
          <a:blip r:embed="rId1"/>
          <a:stretch/>
        </p:blipFill>
        <p:spPr>
          <a:xfrm>
            <a:off x="2590920" y="320040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owers of t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powersoften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3519360" y="2286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5" descr="0"/>
          <p:cNvPicPr/>
          <p:nvPr/>
        </p:nvPicPr>
        <p:blipFill>
          <a:blip r:embed="rId2"/>
          <a:stretch/>
        </p:blipFill>
        <p:spPr>
          <a:xfrm>
            <a:off x="2819520" y="160020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re’s plenty of room at the bottom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“ </a:t>
            </a:r>
            <a:r>
              <a:rPr b="1" i="1" lang="en-US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he principles of physics, as far as I can see, do not speak against the possibility of maneuvering things atom by atom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hard Feyn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1032" descr="feynman-standards"/>
          <p:cNvPicPr/>
          <p:nvPr/>
        </p:nvPicPr>
        <p:blipFill>
          <a:blip r:embed="rId2"/>
          <a:stretch/>
        </p:blipFill>
        <p:spPr>
          <a:xfrm>
            <a:off x="4653000" y="2465280"/>
            <a:ext cx="403380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do we know what’s the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Force Microsco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 guided topographic visualization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 Hill Biologic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5" descr="afm"/>
          <p:cNvPicPr/>
          <p:nvPr/>
        </p:nvPicPr>
        <p:blipFill>
          <a:blip r:embed="rId1"/>
          <a:stretch/>
        </p:blipFill>
        <p:spPr>
          <a:xfrm>
            <a:off x="2666880" y="3505320"/>
            <a:ext cx="35434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did we get here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2" name="Picture 6" descr=""/>
          <p:cNvPicPr/>
          <p:nvPr/>
        </p:nvPicPr>
        <p:blipFill>
          <a:blip r:embed="rId1"/>
          <a:srcRect l="52944" t="0" r="0" b="0"/>
          <a:stretch/>
        </p:blipFill>
        <p:spPr>
          <a:xfrm>
            <a:off x="4813200" y="1600200"/>
            <a:ext cx="38736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1:08:05Z</dcterms:created>
  <dc:creator>Pete and Carcy Vreeland</dc:creator>
  <dc:description/>
  <dc:language>en-US</dc:language>
  <cp:lastModifiedBy>Pete Vreeland</cp:lastModifiedBy>
  <dcterms:modified xsi:type="dcterms:W3CDTF">2009-10-05T14:58:56Z</dcterms:modified>
  <cp:revision>14</cp:revision>
  <dc:subject/>
  <dc:title>Introduction to Nanotechnology</dc:title>
</cp:coreProperties>
</file>